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74F6-31C2-4A27-A277-7C8F6F67E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F57D-2D41-461F-A200-DCEF383C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7EC7-2F44-4F3F-A47E-8F8166B2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C126-B8C8-451F-BC73-F98652C2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46EB-0FCB-4A4A-9F35-2BE06544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1CAC-5659-4A66-BEFC-78A89991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F1E4-7C63-413F-96DB-9F9AD037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4ECF-3188-46C9-8266-EC1371DF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3E98-D199-4771-805F-E9C51F78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E31C-6CC5-48C8-A57B-6F0723A2F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8534-5199-4835-A8AD-01E1D56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E4F8-E985-48A7-BB73-5446D519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9DE7-A96F-49F8-B81F-DAD5F5E13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80329-1620-46F7-8C53-AD83E07564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Noel</cp:lastModifiedBy>
  <dcterms:modified xsi:type="dcterms:W3CDTF">2009-10-17T19:10:58Z</dcterms:modified>
  <cp:revision>5</cp:revision>
  <dc:subject/>
  <dc:title>Slide 1</dc:title>
</cp:coreProperties>
</file>